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6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EDFC-CFCD-4309-9EF4-967035F20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229F-741E-4911-8BA6-8B853B361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318A-D15A-4659-BADE-0DAF417B6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C0DB-2BE9-4760-82DF-7D78E44A1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B9CD-5C04-4E0A-8E1B-937D2D63D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C117-918E-4B32-837B-059B48C37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39BD-34ED-4CEE-B862-20D10C1F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F4BC-D182-4B30-8C72-4674C6D38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57DE-97D3-4187-B8B4-BD44E6A72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8153-B760-4E2E-A60A-23DFA2C79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4F23-CE8E-43AB-9CD4-9EC7B752E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3F6B-F629-47DC-A8BB-A30EF798F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1A74-50DC-419D-AD4A-5BCC7A245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8EAB-29F4-45A5-94FA-FF4C1308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C925-74C8-4488-A757-CB7CBD50D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7CC2-AC1A-4E3A-A7D4-3D7097C3C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120A-80E6-4D28-8E86-F5713A92C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E8D7-F8E3-4DE6-BBF2-7A1DF47AD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A769-6361-4C9D-8A9A-1BE4A5D04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17A2-E85C-461C-AE2C-3ABF8F18F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1054-18EC-4446-A1FA-09EE2B7FE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7A46-842D-4892-BFB9-E260DB3BC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EABF-5120-4F4F-9D2E-A18C516F6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6E8F-8D04-4AF3-A2B9-126937781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F624-45CF-4579-AC13-171387C7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5B09-B9F2-4337-BC42-CBD0FB44C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31C-29BF-438B-947E-C7DD83C4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79A-ED27-4032-8BD0-72730CB9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C40-9EBD-4E59-97F6-4351E690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E98-23C8-41F2-B90D-6E3AA285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9DE4-3E12-4E49-8475-821D5884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3A51-D9D1-4BFC-A790-8FF7D421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C6B6-C483-4D42-9262-1026DB99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8FE9-F2B1-46F8-B0ED-A8B2ED9C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2F08-17C7-448D-BD00-0D869421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A7C8-2C67-4BE4-B150-9FCB1DFB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0CA6-17B1-49A9-A694-C69B7676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94B-50F9-4826-86B9-73C16632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3977-A2FE-47D3-8B7F-A7806D64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5A12-C2F8-413B-87B1-10832482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2900-2C47-4F45-8355-709FEA50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9BE1-73A0-401B-B341-C64AE2EA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8475-8258-4209-8011-5321310C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214-2547-4F21-8524-3D004327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E4B-90FC-45E9-B020-7C7462C1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E51-5ABB-4724-8E74-1D4BFFF5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C80-5465-4A22-AFDE-EE124376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5B3-FA0B-4E5A-A3AD-1E3ADD7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FEC-A48F-46FD-90B8-59660F30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D34-7EB0-44F4-AE13-0939DCC2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pider web with dew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746B-E8E5-4E8F-AE5A-A985E3387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Spider web with dew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FD62-ECDF-43D6-B901-45FCE05AA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B843-F5B5-4066-B6F1-DF97FF6DF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Spider web with dew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391160" cy="8380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mergency Market Mapping &amp; Analys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uided Study and Practice of the Toolk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ay 3, Section 3: EMMA: Analysis &amp;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EMMA Market 1"/>
          <p:cNvPicPr/>
          <p:nvPr/>
        </p:nvPicPr>
        <p:blipFill>
          <a:blip r:embed="rId3"/>
          <a:stretch/>
        </p:blipFill>
        <p:spPr>
          <a:xfrm>
            <a:off x="838080" y="4495680"/>
            <a:ext cx="2946600" cy="2210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Market Map"/>
          <p:cNvPicPr/>
          <p:nvPr/>
        </p:nvPicPr>
        <p:blipFill>
          <a:blip r:embed="rId4"/>
          <a:stretch/>
        </p:blipFill>
        <p:spPr>
          <a:xfrm>
            <a:off x="5638680" y="4495680"/>
            <a:ext cx="32767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A0E0-2530-4335-BD3E-DB523B2FA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Gap Analysis - Qualitative Factor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ap Analysis - Qualitative factors /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traints on people’s physical access to the market-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 needs related to market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thnic, gender-related or other social barriers to participation or access in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sonal factors (other than duration of shortf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cular coping strategies that are being used to meet this priority n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cular preferences or ideas about the response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pecific risks or problems that rule out any of the preliminary response op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7973-DD88-43A2-A53A-C474F51D2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arket Analysis - Impact of the Emergency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main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mpacts on the market-system have been observed in the emergency situ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1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does the market-system’s current level of trade and availability compare with the basel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market-system’s performance essentially limited by supply constraints, demand constraints or bot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B2E0-B545-4038-95AC-80B94703A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olume/Price supply &amp; demand constrain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rd 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is st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upply response constr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dicates trade levels are normal, but insufficient to satisfy increased demand. Alternatively, bottlenecks are raising costs for tra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7154-C35E-4A8A-8A3C-63C01FE41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olume/Price supply &amp; demand constrain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rd 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very w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upply response is uncer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dicates that demand is highly constrained:  buyers lack spending capa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0CCF-F14C-4112-AAFC-7A5CB47EA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olume/Price supply &amp; demand constrain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rd 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is very stro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upply response is g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dicates market system is performing well. However, high prices suggest suppliers are still unable to satisfy surge in demand, or there are bottlenecks that raise costs for tra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730C-320E-4F99-8CE8-D5D27430C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olume/Price supply &amp; demand constrain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rd 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is relatively w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upply is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dicates (income) market-system is being saturated due to weak de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2148-3B24-4F3C-A712-6773896F3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olume/Price supply &amp; demand constrain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rd 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normal (or strong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upply response w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dicates supply constraints are very severe.  Despite high prices, supply is insufficient to satisfy either normal or increased de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35B3-7295-45A1-A0EA-63404FF72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olume/Price supply &amp; demand constrain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rd 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is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upply is exces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dicates system is being saturated by over-supply. This is most likely where desperation forces people to sell labour, livestock or assets on poor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0C59-F039-4799-B825-70E59BAC8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olume/Price supply &amp; demand constrain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rd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is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upply is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dicates market system is little affected compared to the baseline sit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701D-CC24-4006-A8C0-6C9BA674E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olume/Price supply &amp; demand constrain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rd 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is wea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upply response is uncer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dicates that demand is constrained:  buyers probably lack spending capac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648F-D1DE-4920-9E75-66D56CB73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: The Three Stran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066680" y="1371600"/>
            <a:ext cx="6400800" cy="459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066680" y="3581280"/>
            <a:ext cx="6400800" cy="459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3962520" y="1828800"/>
            <a:ext cx="380880" cy="609480"/>
          </a:xfrm>
          <a:prstGeom prst="upDownArrow">
            <a:avLst>
              <a:gd name="adj1" fmla="val 50000"/>
              <a:gd name="adj2" fmla="val 318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7467480" y="1371600"/>
            <a:ext cx="733680" cy="137160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5"/>
          <p:cNvSpPr/>
          <p:nvPr/>
        </p:nvSpPr>
        <p:spPr>
          <a:xfrm>
            <a:off x="3276720" y="4114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7467480" y="2666880"/>
            <a:ext cx="733680" cy="137160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4241880" y="1944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3962520" y="2895480"/>
            <a:ext cx="380880" cy="685800"/>
          </a:xfrm>
          <a:prstGeom prst="upDownArrow">
            <a:avLst>
              <a:gd name="adj1" fmla="val 50000"/>
              <a:gd name="adj2" fmla="val 35844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2362320" y="5181480"/>
            <a:ext cx="3809880" cy="11912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Y RESPONSE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1066680" y="2438280"/>
            <a:ext cx="6400800" cy="459720"/>
          </a:xfrm>
          <a:prstGeom prst="rect">
            <a:avLst/>
          </a:prstGeom>
          <a:solidFill>
            <a:srgbClr val="af67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4572000" y="4114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65F2-2F41-44AB-90E4-C2D3BB224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olume/Price supply &amp; demand constrain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rd 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is st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upply response is g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dicates market system is performing well, compared to baseline: meeting increased needs, without creating price dist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7846-20BC-4151-8E19-B143E06CA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arket Analysis - Impact of the Emergency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main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1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mpacts on the market-system have been observed in the emergency situ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1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does the market-system’s current level of trade and availability compare with the basel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market-system’s performance essentially limited by supply constraints, demand constraints or bot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has market integration been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have competition and market-power been aff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C749-0BE7-4C92-B7C8-8D437EFE4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380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arket Analysis – Can the markets respond?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essential to decide about the capability of the market system to contribute to the emergence response.  This depends on: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racter of market-systems constraints – supply or demand ba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1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t performance (baseline) and current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1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ailability of st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3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 of market integration at different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ly conduct of market actors (risks of abuse of market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327A-5E19-425B-81C6-8CA2FE3EC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arket Analysis - Market Support Option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152280" y="114300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of Direct &amp; Indirec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228600" y="1752480"/>
            <a:ext cx="4343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rect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that make direct contact with emergency-affected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228600" y="3352680"/>
            <a:ext cx="441972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or voucher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s of food or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for work, food fo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sion of shelter, water or san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rition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0"/>
          <p:cNvSpPr/>
          <p:nvPr/>
        </p:nvSpPr>
        <p:spPr>
          <a:xfrm flipH="1">
            <a:off x="4646160" y="1754280"/>
            <a:ext cx="324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4800600" y="1752480"/>
            <a:ext cx="43434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direct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with others – e.g. traders, officials – to indirectly benefit affected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4724280" y="3352680"/>
            <a:ext cx="441972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habilitation of key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s, loans for local business to restore stocks, rehabilitate premises, vehicle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sion of technical expertise to local businesses, employers or service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ypes of data &amp; info used in market-system analys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FCF5-248E-4BB9-9485-C74BD54FE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380880" y="13716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971800" y="228600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bserved disruptions to producers and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ported disruptions to market linkages,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ported disruptions to infrastructure &amp; suppor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ypes of data &amp; info used in market-system analys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7A8F-478F-4655-BE3F-277DB2D56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380880" y="1371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2971800" y="2286000"/>
            <a:ext cx="594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olumes of production &amp; trade in  different parts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urrent stocks, and lead times for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ypes of data &amp; info used in market-system analys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5038-F0ED-456F-930E-64074F948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380880" y="1371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3048120" y="25909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ength of trade linkages with other, unaffected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ypes of data &amp; info used in market-system analys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7DB7-71D5-4E3A-A449-58217A685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380880" y="1371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4"/>
          <p:cNvSpPr/>
          <p:nvPr/>
        </p:nvSpPr>
        <p:spPr>
          <a:xfrm>
            <a:off x="2971800" y="2286000"/>
            <a:ext cx="5943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hanges in prices compared to baselin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ice trends (direction &amp; volatility of price mov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alysis of margins along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ypes of data &amp; info used in market-system analys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A7C0-C653-428E-AB70-D45162811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380880" y="1371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OF MARKET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2971800" y="2286000"/>
            <a:ext cx="594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ctor numbers (and implications this has for market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ncompetitive behaviour or rules, cartels and barriers to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ypes of data &amp; info used in market-system analys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F21B-9865-44B7-B4BB-658C45EB3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80880" y="1219320"/>
          <a:ext cx="8534520" cy="914400"/>
        </p:xfrm>
        <a:graphic>
          <a:graphicData uri="http://schemas.openxmlformats.org/drawingml/2006/table">
            <a:tbl>
              <a:tblPr/>
              <a:tblGrid>
                <a:gridCol w="2425680"/>
                <a:gridCol w="6108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Pゴシック"/>
                        </a:rPr>
                        <a:t>Field Obser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eae9"/>
                      </a:solidFill>
                    </a:lnL>
                    <a:lnR w="5760">
                      <a:solidFill>
                        <a:srgbClr val="e8eae9"/>
                      </a:solidFill>
                    </a:lnR>
                    <a:lnT w="5760">
                      <a:solidFill>
                        <a:srgbClr val="e8eae9"/>
                      </a:solidFill>
                    </a:lnT>
                    <a:lnB w="18720">
                      <a:solidFill>
                        <a:srgbClr val="e8eae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Observed disruptions to producers and busi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Reported disruptions to market linkages,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Reported disruptions to infrastructure &amp; supporting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eae9"/>
                      </a:solidFill>
                    </a:lnL>
                    <a:lnR w="5760">
                      <a:solidFill>
                        <a:srgbClr val="e8eae9"/>
                      </a:solidFill>
                    </a:lnR>
                    <a:lnT w="5760">
                      <a:solidFill>
                        <a:srgbClr val="e8eae9"/>
                      </a:solidFill>
                    </a:lnT>
                    <a:lnB w="18720">
                      <a:solidFill>
                        <a:srgbClr val="e8eae9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380880" y="2438280"/>
          <a:ext cx="8534520" cy="639720"/>
        </p:xfrm>
        <a:graphic>
          <a:graphicData uri="http://schemas.openxmlformats.org/drawingml/2006/table">
            <a:tbl>
              <a:tblPr/>
              <a:tblGrid>
                <a:gridCol w="2425680"/>
                <a:gridCol w="6108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Pゴシック"/>
                        </a:rPr>
                        <a:t>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eae9"/>
                      </a:solidFill>
                    </a:lnL>
                    <a:lnR w="5760">
                      <a:solidFill>
                        <a:srgbClr val="e8eae9"/>
                      </a:solidFill>
                    </a:lnR>
                    <a:lnT w="5760">
                      <a:solidFill>
                        <a:srgbClr val="e8eae9"/>
                      </a:solidFill>
                    </a:lnT>
                    <a:lnB w="18720">
                      <a:solidFill>
                        <a:srgbClr val="e8eae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Volumes of production &amp; trade in different parts of th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Current stocks, and lead times for sup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eae9"/>
                      </a:solidFill>
                    </a:lnL>
                    <a:lnR w="5760">
                      <a:solidFill>
                        <a:srgbClr val="e8eae9"/>
                      </a:solidFill>
                    </a:lnR>
                    <a:lnT w="5760">
                      <a:solidFill>
                        <a:srgbClr val="e8eae9"/>
                      </a:solidFill>
                    </a:lnT>
                    <a:lnB w="18720">
                      <a:solidFill>
                        <a:srgbClr val="e8eae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80880" y="3429000"/>
          <a:ext cx="8534520" cy="415800"/>
        </p:xfrm>
        <a:graphic>
          <a:graphicData uri="http://schemas.openxmlformats.org/drawingml/2006/table">
            <a:tbl>
              <a:tblPr/>
              <a:tblGrid>
                <a:gridCol w="2425680"/>
                <a:gridCol w="610884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Pゴシック"/>
                        </a:rPr>
                        <a:t>Market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eae9"/>
                      </a:solidFill>
                    </a:lnL>
                    <a:lnR w="5760">
                      <a:solidFill>
                        <a:srgbClr val="e8eae9"/>
                      </a:solidFill>
                    </a:lnR>
                    <a:lnT w="5760">
                      <a:solidFill>
                        <a:srgbClr val="e8eae9"/>
                      </a:solidFill>
                    </a:lnT>
                    <a:lnB w="18720">
                      <a:solidFill>
                        <a:srgbClr val="e8eae9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Strength of trade linkages with other, unaffected mar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eae9"/>
                      </a:solidFill>
                    </a:lnL>
                    <a:lnR w="5760">
                      <a:solidFill>
                        <a:srgbClr val="e8eae9"/>
                      </a:solidFill>
                    </a:lnR>
                    <a:lnT w="5760">
                      <a:solidFill>
                        <a:srgbClr val="e8eae9"/>
                      </a:solidFill>
                    </a:lnT>
                    <a:lnB w="18720">
                      <a:solidFill>
                        <a:srgbClr val="e8eae9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80880" y="4114800"/>
          <a:ext cx="8534520" cy="914400"/>
        </p:xfrm>
        <a:graphic>
          <a:graphicData uri="http://schemas.openxmlformats.org/drawingml/2006/table">
            <a:tbl>
              <a:tblPr/>
              <a:tblGrid>
                <a:gridCol w="2425680"/>
                <a:gridCol w="6108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Pゴシック"/>
                        </a:rPr>
                        <a:t>Price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eae9"/>
                      </a:solidFill>
                    </a:lnL>
                    <a:lnR w="5760">
                      <a:solidFill>
                        <a:srgbClr val="e8eae9"/>
                      </a:solidFill>
                    </a:lnR>
                    <a:lnT w="5760">
                      <a:solidFill>
                        <a:srgbClr val="e8eae9"/>
                      </a:solidFill>
                    </a:lnT>
                    <a:lnB w="18720">
                      <a:solidFill>
                        <a:srgbClr val="e8eae9"/>
                      </a:solidFill>
                    </a:lnB>
                    <a:solidFill>
                      <a:srgbClr val="9cc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Changes in prices compared to baseline sit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Price trends (direction &amp; volatility of price movem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Analysis of margins along the ch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eae9"/>
                      </a:solidFill>
                    </a:lnL>
                    <a:lnR w="5760">
                      <a:solidFill>
                        <a:srgbClr val="e8eae9"/>
                      </a:solidFill>
                    </a:lnR>
                    <a:lnT w="5760">
                      <a:solidFill>
                        <a:srgbClr val="e8eae9"/>
                      </a:solidFill>
                    </a:lnT>
                    <a:lnB w="18720">
                      <a:solidFill>
                        <a:srgbClr val="e8eae9"/>
                      </a:solidFill>
                    </a:lnB>
                    <a:solidFill>
                      <a:srgbClr val="9cc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80880" y="5334120"/>
          <a:ext cx="8534520" cy="639720"/>
        </p:xfrm>
        <a:graphic>
          <a:graphicData uri="http://schemas.openxmlformats.org/drawingml/2006/table">
            <a:tbl>
              <a:tblPr/>
              <a:tblGrid>
                <a:gridCol w="2425680"/>
                <a:gridCol w="6108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Pゴシック"/>
                        </a:rPr>
                        <a:t>Conduct of market 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eae9"/>
                      </a:solidFill>
                    </a:lnL>
                    <a:lnR w="5760">
                      <a:solidFill>
                        <a:srgbClr val="e8eae9"/>
                      </a:solidFill>
                    </a:lnR>
                    <a:lnT w="5760">
                      <a:solidFill>
                        <a:srgbClr val="e8eae9"/>
                      </a:solidFill>
                    </a:lnT>
                    <a:lnB w="18720">
                      <a:solidFill>
                        <a:srgbClr val="e8eae9"/>
                      </a:solidFill>
                    </a:lnB>
                    <a:solidFill>
                      <a:srgbClr val="e8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Actor numbers (and implications this has for market pow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MS Pゴシック"/>
                        </a:rPr>
                        <a:t>Uncompetitive behaviour or rules, cartels and barriers to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8eae9"/>
                      </a:solidFill>
                    </a:lnL>
                    <a:lnR w="5760">
                      <a:solidFill>
                        <a:srgbClr val="e8eae9"/>
                      </a:solidFill>
                    </a:lnR>
                    <a:lnT w="5760">
                      <a:solidFill>
                        <a:srgbClr val="e8eae9"/>
                      </a:solidFill>
                    </a:lnT>
                    <a:lnB w="18720">
                      <a:solidFill>
                        <a:srgbClr val="e8eae9"/>
                      </a:solidFill>
                    </a:lnB>
                    <a:solidFill>
                      <a:srgbClr val="e8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1E97-F8D2-4AB6-BF5F-01A02E716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: The Three Stran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90720" y="1066680"/>
            <a:ext cx="6400800" cy="8384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066680" y="5105520"/>
            <a:ext cx="6324840" cy="99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Y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962520" y="1905120"/>
            <a:ext cx="380880" cy="1143000"/>
          </a:xfrm>
          <a:prstGeom prst="upDownArrow">
            <a:avLst>
              <a:gd name="adj1" fmla="val 50000"/>
              <a:gd name="adj2" fmla="val 5974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7391520" y="1066680"/>
            <a:ext cx="885600" cy="2514600"/>
          </a:xfrm>
          <a:custGeom>
            <a:avLst/>
            <a:gdLst>
              <a:gd name="textAreaLeft" fmla="*/ 118440 w 885600"/>
              <a:gd name="textAreaRight" fmla="*/ 767160 w 885600"/>
              <a:gd name="textAreaTop" fmla="*/ 438840 h 2514600"/>
              <a:gd name="textAreaBottom" fmla="*/ 1828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41" stAng="-5400000" swAng="5400000"/>
                <a:lnTo>
                  <a:pt x="21600" y="11932"/>
                </a:lnTo>
                <a:arcTo wR="21600" hR="7541" stAng="0" swAng="2678312"/>
                <a:lnTo>
                  <a:pt x="7200" y="21169"/>
                </a:lnTo>
                <a:lnTo>
                  <a:pt x="0" y="17278"/>
                </a:lnTo>
                <a:lnTo>
                  <a:pt x="7200" y="12524"/>
                </a:lnTo>
                <a:lnTo>
                  <a:pt x="7200" y="14651"/>
                </a:lnTo>
                <a:arcTo wR="21600" hR="7541" stAng="2678312" swAng="-2314430"/>
                <a:lnTo>
                  <a:pt x="20664" y="9737"/>
                </a:lnTo>
                <a:arcTo wR="21600" hR="7541" stAng="-363882" swAng="-5036118"/>
                <a:close/>
              </a:path>
              <a:path fill="darkenLess" w="21600" h="21600">
                <a:moveTo>
                  <a:pt x="0" y="0"/>
                </a:moveTo>
                <a:arcTo wR="21600" hR="7541" stAng="-5400000" swAng="5400000"/>
                <a:lnTo>
                  <a:pt x="21600" y="11932"/>
                </a:lnTo>
                <a:arcTo wR="21600" hR="7541" stAng="0" swAng="-363882"/>
                <a:lnTo>
                  <a:pt x="20664" y="9737"/>
                </a:lnTo>
                <a:arcTo wR="21600" hR="7541" stAng="-363882" swAng="-5036118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7391520" y="3429000"/>
            <a:ext cx="733320" cy="2666880"/>
          </a:xfrm>
          <a:custGeom>
            <a:avLst/>
            <a:gdLst>
              <a:gd name="textAreaLeft" fmla="*/ 98280 w 733320"/>
              <a:gd name="textAreaRight" fmla="*/ 635040 w 733320"/>
              <a:gd name="textAreaTop" fmla="*/ 466560 h 2666880"/>
              <a:gd name="textAreaBottom" fmla="*/ 19335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4241880" y="1944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3962520" y="3962520"/>
            <a:ext cx="380880" cy="1143000"/>
          </a:xfrm>
          <a:prstGeom prst="upDownArrow">
            <a:avLst>
              <a:gd name="adj1" fmla="val 50000"/>
              <a:gd name="adj2" fmla="val 5974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90720" y="3048120"/>
            <a:ext cx="6400800" cy="914400"/>
          </a:xfrm>
          <a:prstGeom prst="rect">
            <a:avLst/>
          </a:prstGeom>
          <a:solidFill>
            <a:srgbClr val="af67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’s Core Logic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reasons for EMMA include consideration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decisions – in-kind versus cash for DIRECT assistant to househol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 actions to strengthen market system’s response to ga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9DCA-3F5C-4707-9927-9D67A20ED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’s Core Logic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response options fall into 4 categories.  Responses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y on local market systems performing wel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m to strengthen/support local market system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rely on local market systems performing well, but may use regional or national marke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prior further investigation, analysis &amp; monit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FE10-9B92-47E3-8F02-1A4A4F434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’s Core Logic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 Logic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mari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3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seline situation [PAST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“How well did this market system work before the emergen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act [PRESENT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“How has this market system been affected by the cri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ecast [FUTURE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“How well is this market system likely to react or respond to proposed humanitarian actions, or future impacts of the cri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099B-7854-47F4-A53A-52739C0D9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7732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sponse Analysis Logic – Supply syste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FC04-25AA-47B1-B15E-83C65E182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2971800" y="990720"/>
            <a:ext cx="3200400" cy="73332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D MARKET SYSTEM WORK WELL BEFORE EMERGENCY SITUATION? (BASE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304920" y="2438280"/>
            <a:ext cx="1981080" cy="94644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VOUR IN-KIND DISTRIBUTIONS TO TARGET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3276720" y="2362320"/>
            <a:ext cx="2590560" cy="115956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MARKET SYSTEM RESPOND WELL TO NECESSARY DEMAND IF IT WAS CREATED NOW? (EMERGENC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7010280" y="2362320"/>
            <a:ext cx="1905120" cy="115956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VOUR CASH-BASED ASSISTANCE TO TARGET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2"/>
          <p:cNvSpPr/>
          <p:nvPr/>
        </p:nvSpPr>
        <p:spPr>
          <a:xfrm>
            <a:off x="7086600" y="4191120"/>
            <a:ext cx="1828800" cy="94644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VOUR INDIRECT ACTIONS TO STRENGTHEN THE MARKE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2971800" y="4267080"/>
            <a:ext cx="3200400" cy="73332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LD MARKET SYSTEM’S CONSTRAINTS BE RESOLVED OR OVERCOME IN GOOD TI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4"/>
          <p:cNvSpPr/>
          <p:nvPr/>
        </p:nvSpPr>
        <p:spPr>
          <a:xfrm>
            <a:off x="3048120" y="5715000"/>
            <a:ext cx="3200400" cy="52020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MMEND MORE DETAILED MARKET SYSTEM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Straight Arrow Connector 16"/>
          <p:cNvCxnSpPr/>
          <p:nvPr/>
        </p:nvCxnSpPr>
        <p:spPr>
          <a:xfrm flipH="1">
            <a:off x="1141200" y="1296720"/>
            <a:ext cx="36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3" name="Straight Connector 23"/>
          <p:cNvSpPr/>
          <p:nvPr/>
        </p:nvSpPr>
        <p:spPr>
          <a:xfrm flipH="1" flipV="1">
            <a:off x="1143000" y="12949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29"/>
          <p:cNvSpPr/>
          <p:nvPr/>
        </p:nvSpPr>
        <p:spPr>
          <a:xfrm flipH="1" flipV="1">
            <a:off x="1219320" y="59436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30"/>
          <p:cNvCxnSpPr/>
          <p:nvPr/>
        </p:nvCxnSpPr>
        <p:spPr>
          <a:xfrm flipV="1">
            <a:off x="1216440" y="3429720"/>
            <a:ext cx="396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6" name="Straight Arrow Connector 33"/>
          <p:cNvCxnSpPr>
            <a:endCxn id="267" idx="0"/>
          </p:cNvCxnSpPr>
          <p:nvPr/>
        </p:nvCxnSpPr>
        <p:spPr>
          <a:xfrm flipH="1">
            <a:off x="4571640" y="1752480"/>
            <a:ext cx="216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7" name="Straight Arrow Connector 35"/>
          <p:cNvCxnSpPr>
            <a:stCxn id="267" idx="2"/>
            <a:endCxn id="270" idx="0"/>
          </p:cNvCxnSpPr>
          <p:nvPr/>
        </p:nvCxnSpPr>
        <p:spPr>
          <a:xfrm flipH="1">
            <a:off x="4571640" y="3531960"/>
            <a:ext cx="2160" cy="73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Straight Arrow Connector 38"/>
          <p:cNvCxnSpPr/>
          <p:nvPr/>
        </p:nvCxnSpPr>
        <p:spPr>
          <a:xfrm flipH="1">
            <a:off x="4571640" y="5028840"/>
            <a:ext cx="21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9" name="Straight Arrow Connector 40"/>
          <p:cNvCxnSpPr>
            <a:stCxn id="267" idx="3"/>
            <a:endCxn id="268" idx="1"/>
          </p:cNvCxnSpPr>
          <p:nvPr/>
        </p:nvCxnSpPr>
        <p:spPr>
          <a:xfrm>
            <a:off x="5866920" y="294588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Straight Arrow Connector 43"/>
          <p:cNvCxnSpPr/>
          <p:nvPr/>
        </p:nvCxnSpPr>
        <p:spPr>
          <a:xfrm>
            <a:off x="6172200" y="4648320"/>
            <a:ext cx="91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1" name="TextBox 45" descr=""/>
          <p:cNvPicPr/>
          <p:nvPr/>
        </p:nvPicPr>
        <p:blipFill>
          <a:blip r:embed="rId2"/>
          <a:stretch/>
        </p:blipFill>
        <p:spPr>
          <a:xfrm>
            <a:off x="1292400" y="987480"/>
            <a:ext cx="1377720" cy="317520"/>
          </a:xfrm>
          <a:prstGeom prst="rect">
            <a:avLst/>
          </a:prstGeom>
          <a:ln w="0">
            <a:noFill/>
          </a:ln>
        </p:spPr>
      </p:pic>
      <p:pic>
        <p:nvPicPr>
          <p:cNvPr id="282" name="TextBox 46" descr=""/>
          <p:cNvPicPr/>
          <p:nvPr/>
        </p:nvPicPr>
        <p:blipFill>
          <a:blip r:embed="rId3"/>
          <a:stretch/>
        </p:blipFill>
        <p:spPr>
          <a:xfrm>
            <a:off x="1365120" y="4340160"/>
            <a:ext cx="1384560" cy="317520"/>
          </a:xfrm>
          <a:prstGeom prst="rect">
            <a:avLst/>
          </a:prstGeom>
          <a:ln w="0">
            <a:noFill/>
          </a:ln>
        </p:spPr>
      </p:pic>
      <p:pic>
        <p:nvPicPr>
          <p:cNvPr id="283" name="TextBox 48" descr=""/>
          <p:cNvPicPr/>
          <p:nvPr/>
        </p:nvPicPr>
        <p:blipFill>
          <a:blip r:embed="rId4"/>
          <a:stretch/>
        </p:blipFill>
        <p:spPr>
          <a:xfrm>
            <a:off x="2816280" y="3730680"/>
            <a:ext cx="1762200" cy="317520"/>
          </a:xfrm>
          <a:prstGeom prst="rect">
            <a:avLst/>
          </a:prstGeom>
          <a:ln w="0">
            <a:noFill/>
          </a:ln>
        </p:spPr>
      </p:pic>
      <p:pic>
        <p:nvPicPr>
          <p:cNvPr id="284" name="TextBox 49" descr=""/>
          <p:cNvPicPr/>
          <p:nvPr/>
        </p:nvPicPr>
        <p:blipFill>
          <a:blip r:embed="rId5"/>
          <a:stretch/>
        </p:blipFill>
        <p:spPr>
          <a:xfrm>
            <a:off x="2584440" y="1822320"/>
            <a:ext cx="2146320" cy="317520"/>
          </a:xfrm>
          <a:prstGeom prst="rect">
            <a:avLst/>
          </a:prstGeom>
          <a:ln w="0">
            <a:noFill/>
          </a:ln>
        </p:spPr>
      </p:pic>
      <p:pic>
        <p:nvPicPr>
          <p:cNvPr id="285" name="TextBox 50" descr=""/>
          <p:cNvPicPr/>
          <p:nvPr/>
        </p:nvPicPr>
        <p:blipFill>
          <a:blip r:embed="rId6"/>
          <a:stretch/>
        </p:blipFill>
        <p:spPr>
          <a:xfrm>
            <a:off x="3121200" y="5175360"/>
            <a:ext cx="1761840" cy="317520"/>
          </a:xfrm>
          <a:prstGeom prst="rect">
            <a:avLst/>
          </a:prstGeom>
          <a:ln w="0">
            <a:noFill/>
          </a:ln>
        </p:spPr>
      </p:pic>
      <p:pic>
        <p:nvPicPr>
          <p:cNvPr id="286" name="TextBox 51" descr=""/>
          <p:cNvPicPr/>
          <p:nvPr/>
        </p:nvPicPr>
        <p:blipFill>
          <a:blip r:embed="rId7"/>
          <a:stretch/>
        </p:blipFill>
        <p:spPr>
          <a:xfrm>
            <a:off x="5864400" y="2664000"/>
            <a:ext cx="1225440" cy="317160"/>
          </a:xfrm>
          <a:prstGeom prst="rect">
            <a:avLst/>
          </a:prstGeom>
          <a:ln w="0">
            <a:noFill/>
          </a:ln>
        </p:spPr>
      </p:pic>
      <p:pic>
        <p:nvPicPr>
          <p:cNvPr id="287" name="TextBox 52" descr=""/>
          <p:cNvPicPr/>
          <p:nvPr/>
        </p:nvPicPr>
        <p:blipFill>
          <a:blip r:embed="rId8"/>
          <a:stretch/>
        </p:blipFill>
        <p:spPr>
          <a:xfrm>
            <a:off x="6089760" y="4340160"/>
            <a:ext cx="1231920" cy="317520"/>
          </a:xfrm>
          <a:prstGeom prst="rect">
            <a:avLst/>
          </a:prstGeom>
          <a:ln w="0">
            <a:noFill/>
          </a:ln>
        </p:spPr>
      </p:pic>
      <p:sp>
        <p:nvSpPr>
          <p:cNvPr id="288" name="Straight Connector 53"/>
          <p:cNvSpPr/>
          <p:nvPr/>
        </p:nvSpPr>
        <p:spPr>
          <a:xfrm flipH="1">
            <a:off x="1219320" y="4636440"/>
            <a:ext cx="1752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TextBox 56" descr=""/>
          <p:cNvPicPr/>
          <p:nvPr/>
        </p:nvPicPr>
        <p:blipFill>
          <a:blip r:embed="rId9"/>
          <a:stretch/>
        </p:blipFill>
        <p:spPr>
          <a:xfrm>
            <a:off x="682560" y="6016680"/>
            <a:ext cx="2371680" cy="317520"/>
          </a:xfrm>
          <a:prstGeom prst="rect">
            <a:avLst/>
          </a:prstGeom>
          <a:ln w="0">
            <a:noFill/>
          </a:ln>
        </p:spPr>
      </p:pic>
      <p:cxnSp>
        <p:nvCxnSpPr>
          <p:cNvPr id="290" name="Straight Arrow Connector 58"/>
          <p:cNvCxnSpPr/>
          <p:nvPr/>
        </p:nvCxnSpPr>
        <p:spPr>
          <a:xfrm flipV="1">
            <a:off x="1216440" y="4649400"/>
            <a:ext cx="39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1" name="Straight Arrow Connector 60"/>
          <p:cNvCxnSpPr/>
          <p:nvPr/>
        </p:nvCxnSpPr>
        <p:spPr>
          <a:xfrm flipV="1">
            <a:off x="7999560" y="3580920"/>
            <a:ext cx="216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2" name="TextBox 63" descr=""/>
          <p:cNvPicPr/>
          <p:nvPr/>
        </p:nvPicPr>
        <p:blipFill>
          <a:blip r:embed="rId10"/>
          <a:stretch/>
        </p:blipFill>
        <p:spPr>
          <a:xfrm>
            <a:off x="7083360" y="3730680"/>
            <a:ext cx="122544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sponse Analysis Logic – Income system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CC8C-C7DC-4B92-A60B-22E90AF13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2971800" y="990720"/>
            <a:ext cx="3200400" cy="73332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D MARKET SYSTEM WORK WELL BEFORE EMERGENCY SITUATION? (BASE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9"/>
          <p:cNvSpPr/>
          <p:nvPr/>
        </p:nvSpPr>
        <p:spPr>
          <a:xfrm>
            <a:off x="152280" y="2438280"/>
            <a:ext cx="2133720" cy="115956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 CAUTIOUS ABOUT PROMOTING PRODUCTION OR EMPLOYMENT IN THIS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3276720" y="2362320"/>
            <a:ext cx="2590560" cy="115956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ULD MARKET SYSTEM RESPOND WELL TO SUPPLY OF PRODUCTS OR LABOUR NOW? (EMERGENC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7010280" y="2362320"/>
            <a:ext cx="1905120" cy="115956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VOUR DIRECT ASSISTANCE TO TARGET POPULATION TO INCREASE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2"/>
          <p:cNvSpPr/>
          <p:nvPr/>
        </p:nvSpPr>
        <p:spPr>
          <a:xfrm>
            <a:off x="7086600" y="4191120"/>
            <a:ext cx="1828800" cy="94644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VOUR INDIRECT ACTIONS TO STRENGTHEN THE MARKE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2971800" y="4267080"/>
            <a:ext cx="3200400" cy="73332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LD MARKET SYSTEM’S CONSTRAINTS BE RESOLVED OR OVERCOME IN GOOD TI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4"/>
          <p:cNvSpPr/>
          <p:nvPr/>
        </p:nvSpPr>
        <p:spPr>
          <a:xfrm>
            <a:off x="3048120" y="5715000"/>
            <a:ext cx="3200400" cy="520200"/>
          </a:xfrm>
          <a:prstGeom prst="rect">
            <a:avLst/>
          </a:prstGeom>
          <a:solidFill>
            <a:srgbClr val="cae2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MMEND MORE DETAILED MARKET SYSTEM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Straight Arrow Connector 16"/>
          <p:cNvCxnSpPr/>
          <p:nvPr/>
        </p:nvCxnSpPr>
        <p:spPr>
          <a:xfrm flipH="1">
            <a:off x="1141200" y="1296720"/>
            <a:ext cx="36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4" name="Straight Connector 23"/>
          <p:cNvSpPr/>
          <p:nvPr/>
        </p:nvSpPr>
        <p:spPr>
          <a:xfrm flipH="1" flipV="1">
            <a:off x="1143000" y="12949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29"/>
          <p:cNvSpPr/>
          <p:nvPr/>
        </p:nvSpPr>
        <p:spPr>
          <a:xfrm flipH="1" flipV="1">
            <a:off x="1219320" y="594360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30"/>
          <p:cNvCxnSpPr>
            <a:endCxn id="297" idx="2"/>
          </p:cNvCxnSpPr>
          <p:nvPr/>
        </p:nvCxnSpPr>
        <p:spPr>
          <a:xfrm flipV="1">
            <a:off x="1218240" y="3607560"/>
            <a:ext cx="108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33"/>
          <p:cNvCxnSpPr>
            <a:endCxn id="298" idx="0"/>
          </p:cNvCxnSpPr>
          <p:nvPr/>
        </p:nvCxnSpPr>
        <p:spPr>
          <a:xfrm flipH="1">
            <a:off x="4571640" y="1752480"/>
            <a:ext cx="216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35"/>
          <p:cNvCxnSpPr>
            <a:stCxn id="298" idx="2"/>
            <a:endCxn id="301" idx="0"/>
          </p:cNvCxnSpPr>
          <p:nvPr/>
        </p:nvCxnSpPr>
        <p:spPr>
          <a:xfrm flipH="1">
            <a:off x="4571640" y="3531960"/>
            <a:ext cx="2160" cy="73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38"/>
          <p:cNvCxnSpPr/>
          <p:nvPr/>
        </p:nvCxnSpPr>
        <p:spPr>
          <a:xfrm flipH="1">
            <a:off x="4571640" y="5028840"/>
            <a:ext cx="21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40"/>
          <p:cNvCxnSpPr>
            <a:stCxn id="298" idx="3"/>
            <a:endCxn id="299" idx="1"/>
          </p:cNvCxnSpPr>
          <p:nvPr/>
        </p:nvCxnSpPr>
        <p:spPr>
          <a:xfrm>
            <a:off x="5866920" y="294588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43"/>
          <p:cNvCxnSpPr/>
          <p:nvPr/>
        </p:nvCxnSpPr>
        <p:spPr>
          <a:xfrm>
            <a:off x="6172200" y="4648320"/>
            <a:ext cx="91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12" name="TextBox 45" descr=""/>
          <p:cNvPicPr/>
          <p:nvPr/>
        </p:nvPicPr>
        <p:blipFill>
          <a:blip r:embed="rId2"/>
          <a:stretch/>
        </p:blipFill>
        <p:spPr>
          <a:xfrm>
            <a:off x="1292400" y="987480"/>
            <a:ext cx="1377720" cy="317520"/>
          </a:xfrm>
          <a:prstGeom prst="rect">
            <a:avLst/>
          </a:prstGeom>
          <a:ln w="0">
            <a:noFill/>
          </a:ln>
        </p:spPr>
      </p:pic>
      <p:pic>
        <p:nvPicPr>
          <p:cNvPr id="313" name="TextBox 46" descr=""/>
          <p:cNvPicPr/>
          <p:nvPr/>
        </p:nvPicPr>
        <p:blipFill>
          <a:blip r:embed="rId3"/>
          <a:stretch/>
        </p:blipFill>
        <p:spPr>
          <a:xfrm>
            <a:off x="1365120" y="4340160"/>
            <a:ext cx="1384560" cy="317520"/>
          </a:xfrm>
          <a:prstGeom prst="rect">
            <a:avLst/>
          </a:prstGeom>
          <a:ln w="0">
            <a:noFill/>
          </a:ln>
        </p:spPr>
      </p:pic>
      <p:pic>
        <p:nvPicPr>
          <p:cNvPr id="314" name="TextBox 48" descr=""/>
          <p:cNvPicPr/>
          <p:nvPr/>
        </p:nvPicPr>
        <p:blipFill>
          <a:blip r:embed="rId4"/>
          <a:stretch/>
        </p:blipFill>
        <p:spPr>
          <a:xfrm>
            <a:off x="2816280" y="3730680"/>
            <a:ext cx="1762200" cy="317520"/>
          </a:xfrm>
          <a:prstGeom prst="rect">
            <a:avLst/>
          </a:prstGeom>
          <a:ln w="0">
            <a:noFill/>
          </a:ln>
        </p:spPr>
      </p:pic>
      <p:pic>
        <p:nvPicPr>
          <p:cNvPr id="315" name="TextBox 49" descr=""/>
          <p:cNvPicPr/>
          <p:nvPr/>
        </p:nvPicPr>
        <p:blipFill>
          <a:blip r:embed="rId5"/>
          <a:stretch/>
        </p:blipFill>
        <p:spPr>
          <a:xfrm>
            <a:off x="2584440" y="1822320"/>
            <a:ext cx="2146320" cy="317520"/>
          </a:xfrm>
          <a:prstGeom prst="rect">
            <a:avLst/>
          </a:prstGeom>
          <a:ln w="0">
            <a:noFill/>
          </a:ln>
        </p:spPr>
      </p:pic>
      <p:pic>
        <p:nvPicPr>
          <p:cNvPr id="316" name="TextBox 50" descr=""/>
          <p:cNvPicPr/>
          <p:nvPr/>
        </p:nvPicPr>
        <p:blipFill>
          <a:blip r:embed="rId6"/>
          <a:stretch/>
        </p:blipFill>
        <p:spPr>
          <a:xfrm>
            <a:off x="3121200" y="5175360"/>
            <a:ext cx="1761840" cy="317520"/>
          </a:xfrm>
          <a:prstGeom prst="rect">
            <a:avLst/>
          </a:prstGeom>
          <a:ln w="0">
            <a:noFill/>
          </a:ln>
        </p:spPr>
      </p:pic>
      <p:pic>
        <p:nvPicPr>
          <p:cNvPr id="317" name="TextBox 51" descr=""/>
          <p:cNvPicPr/>
          <p:nvPr/>
        </p:nvPicPr>
        <p:blipFill>
          <a:blip r:embed="rId7"/>
          <a:stretch/>
        </p:blipFill>
        <p:spPr>
          <a:xfrm>
            <a:off x="5864400" y="2664000"/>
            <a:ext cx="1225440" cy="31716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52" descr=""/>
          <p:cNvPicPr/>
          <p:nvPr/>
        </p:nvPicPr>
        <p:blipFill>
          <a:blip r:embed="rId8"/>
          <a:stretch/>
        </p:blipFill>
        <p:spPr>
          <a:xfrm>
            <a:off x="6089760" y="4340160"/>
            <a:ext cx="1231920" cy="317520"/>
          </a:xfrm>
          <a:prstGeom prst="rect">
            <a:avLst/>
          </a:prstGeom>
          <a:ln w="0">
            <a:noFill/>
          </a:ln>
        </p:spPr>
      </p:pic>
      <p:sp>
        <p:nvSpPr>
          <p:cNvPr id="319" name="Straight Connector 53"/>
          <p:cNvSpPr/>
          <p:nvPr/>
        </p:nvSpPr>
        <p:spPr>
          <a:xfrm flipH="1">
            <a:off x="1219320" y="4636440"/>
            <a:ext cx="1752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TextBox 56" descr=""/>
          <p:cNvPicPr/>
          <p:nvPr/>
        </p:nvPicPr>
        <p:blipFill>
          <a:blip r:embed="rId9"/>
          <a:stretch/>
        </p:blipFill>
        <p:spPr>
          <a:xfrm>
            <a:off x="682560" y="6016680"/>
            <a:ext cx="2371680" cy="31752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58"/>
          <p:cNvCxnSpPr/>
          <p:nvPr/>
        </p:nvCxnSpPr>
        <p:spPr>
          <a:xfrm flipV="1">
            <a:off x="1216440" y="4649400"/>
            <a:ext cx="39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2" name="Straight Arrow Connector 31"/>
          <p:cNvCxnSpPr/>
          <p:nvPr/>
        </p:nvCxnSpPr>
        <p:spPr>
          <a:xfrm flipV="1">
            <a:off x="7999920" y="3580920"/>
            <a:ext cx="108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23" name="TextBox 34" descr=""/>
          <p:cNvPicPr/>
          <p:nvPr/>
        </p:nvPicPr>
        <p:blipFill>
          <a:blip r:embed="rId10"/>
          <a:stretch/>
        </p:blipFill>
        <p:spPr>
          <a:xfrm>
            <a:off x="7004160" y="3730680"/>
            <a:ext cx="12319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7BE8-B21F-42D8-87C7-193880FF8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MMA - Response Options Matrix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27" name="Content Placeholder 12" descr="Screen shot 2009-09-17 at 15.40.22.png"/>
          <p:cNvPicPr/>
          <p:nvPr/>
        </p:nvPicPr>
        <p:blipFill>
          <a:blip r:embed="rId2"/>
          <a:srcRect l="-17861" t="0" r="-17861" b="0"/>
          <a:stretch/>
        </p:blipFill>
        <p:spPr>
          <a:xfrm>
            <a:off x="-304920" y="1219320"/>
            <a:ext cx="9753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0E37-143E-4117-BADA-17B24BD31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Times New Roman"/>
              </a:rPr>
              <a:t>EMMA - Response Recommendations Matrix</a:t>
            </a:r>
            <a:endParaRPr b="0" lang="en-US" sz="3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31" name="Content Placeholder 5" descr="Screen shot 2009-09-17 at 15.36.34.png"/>
          <p:cNvPicPr/>
          <p:nvPr/>
        </p:nvPicPr>
        <p:blipFill>
          <a:blip r:embed="rId2"/>
          <a:srcRect l="0" t="-38282" r="0" b="-38282"/>
          <a:stretch/>
        </p:blipFill>
        <p:spPr>
          <a:xfrm>
            <a:off x="685800" y="6094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9B61-3955-4D0C-A37E-035EC0836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: The Three Stran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0" y="838080"/>
          <a:ext cx="4495680" cy="556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838080"/>
                    <a:ext cx="4495680" cy="5562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F92B-C6A4-4CFB-862F-18C4249D1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: The Three Stran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120" y="1752480"/>
            <a:ext cx="80010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needs and preferences of the target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household needs in context of their economic profile and livelihoo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38080" y="3505320"/>
            <a:ext cx="7620120" cy="259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ample: Summary Results of a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,000 households in Guishen are normally food secure in locally-grown rice at this time of year.  Due to 60% flood destruction of current crop, they face a total collective shortfall (gap) of 1200 MT / month until the next harvest in nine months.  The target population have a strong preference for cash-based assistance, mainly due to concerns about likely quality of food a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990720" y="838080"/>
            <a:ext cx="7238880" cy="609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P ANALYSIS (PEOPLE)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7A05-E6E3-4851-8C04-CE4248899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: The Three Stran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762120" y="1600200"/>
            <a:ext cx="8001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critical market-system’s constraints and capabilities to assist emergency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map of baseline situation, and explores impact of eme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838080" y="3733920"/>
            <a:ext cx="7620120" cy="259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ample: Summary Results of a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arket-System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ders in Guishen will struggle to supply an extra 1200 MT rice / month from local stocks, and are not accustomed to ‘importing’ more than 300 MT / month (baseline).  The main obstacles to stepping up supplies are lack of finance (trading capital), and damage to local fleet of trucks.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ddition, many rural feeder roads to remoter villages are blocked.  However, rice traders in the nearest large city (Xhantou) have ample supplies (baseline 4000 MT / mont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1066680" y="838080"/>
            <a:ext cx="7239240" cy="609840"/>
          </a:xfrm>
          <a:prstGeom prst="rect">
            <a:avLst/>
          </a:prstGeom>
          <a:solidFill>
            <a:srgbClr val="af67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ANALYSIS (MARKETS)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A61A-2B85-448C-8D4D-0E62344C5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: The Three Strand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62120" y="1371600"/>
            <a:ext cx="8001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s final recommendations of E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s feasibility, risks, pros, cons of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04920" y="685800"/>
            <a:ext cx="8610480" cy="609480"/>
          </a:xfrm>
          <a:prstGeom prst="rect">
            <a:avLst/>
          </a:prstGeom>
          <a:solidFill>
            <a:srgbClr val="af67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 ANALYSIS (EMERGENCY RESPONSE) STR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Picture 1.png"/>
          <p:cNvPicPr/>
          <p:nvPr/>
        </p:nvPicPr>
        <p:blipFill>
          <a:blip r:embed="rId2"/>
          <a:stretch/>
        </p:blipFill>
        <p:spPr>
          <a:xfrm>
            <a:off x="762120" y="2362320"/>
            <a:ext cx="73911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F946-67D2-49F2-8F35-623205292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Gap Analysis - Target Population Detail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3" descr="Picture 2"/>
          <p:cNvPicPr/>
          <p:nvPr/>
        </p:nvPicPr>
        <p:blipFill>
          <a:blip r:embed="rId2"/>
          <a:stretch/>
        </p:blipFill>
        <p:spPr>
          <a:xfrm>
            <a:off x="380880" y="990720"/>
            <a:ext cx="845820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C2F6-7264-467C-8D7E-6FD1D7C5A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Gap Analysis - Numerical Summary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6" descr="Picture 1"/>
          <p:cNvPicPr/>
          <p:nvPr/>
        </p:nvPicPr>
        <p:blipFill>
          <a:blip r:embed="rId2"/>
          <a:stretch/>
        </p:blipFill>
        <p:spPr>
          <a:xfrm>
            <a:off x="380880" y="914400"/>
            <a:ext cx="84726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7:39:54Z</dcterms:created>
  <dc:creator>Tony Dines</dc:creator>
  <dc:description/>
  <dc:language>en-US</dc:language>
  <cp:lastModifiedBy>Tony Dines</cp:lastModifiedBy>
  <cp:lastPrinted>2009-06-04T15:33:18Z</cp:lastPrinted>
  <dcterms:modified xsi:type="dcterms:W3CDTF">2009-09-23T07:45:53Z</dcterms:modified>
  <cp:revision>75</cp:revision>
  <dc:subject/>
  <dc:title>PowerPoint Presentation</dc:title>
</cp:coreProperties>
</file>